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D58-E549-4645-9243-1E497DEB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99F-36E7-4829-9740-5FC4B6C4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E74-8661-4BFF-9AD0-29742790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8E4-DEFC-430E-BA52-C174EEE3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7A2-C79C-4894-A797-DB31E743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698-45CA-4BBD-9A8C-AC1426C2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D80-051F-4BAA-8E3A-A3724073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ADA-F969-4C0C-B455-AABBD6C2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56D-25E6-4C3C-9B8F-C66713BC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F49-F672-42B9-B44E-DC70AF99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7E7-FDCE-4C7F-ADE9-B280D9B6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CE9-CBED-4EFA-9C96-55F26303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A731-1316-40C4-8E8A-15E9C5A57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ke Card Gam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BC788F84"/>
          <p:cNvPicPr/>
          <p:nvPr/>
        </p:nvPicPr>
        <p:blipFill>
          <a:blip r:embed="rId1"/>
          <a:stretch/>
        </p:blipFill>
        <p:spPr>
          <a:xfrm>
            <a:off x="1371600" y="1600200"/>
            <a:ext cx="6319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ke Card Gam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239432"/>
          <p:cNvPicPr/>
          <p:nvPr/>
        </p:nvPicPr>
        <p:blipFill>
          <a:blip r:embed="rId1"/>
          <a:stretch/>
        </p:blipFill>
        <p:spPr>
          <a:xfrm>
            <a:off x="1066680" y="1447920"/>
            <a:ext cx="72248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8:58:43Z</dcterms:created>
  <dc:creator>CABELL BOE</dc:creator>
  <dc:description/>
  <dc:language>en-US</dc:language>
  <cp:lastModifiedBy>CABELL BOE</cp:lastModifiedBy>
  <dcterms:modified xsi:type="dcterms:W3CDTF">2009-06-01T18:58:52Z</dcterms:modified>
  <cp:revision>1</cp:revision>
  <dc:subject/>
  <dc:title>Make Card Games!</dc:title>
</cp:coreProperties>
</file>